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8B1-BA4D-429E-B9A5-ED872494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431-D3F7-4031-8F9B-6C1E2524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CD7-7569-4C7A-B085-88003CE4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C0C-8017-4CF6-8BD6-B1DCF3BF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B3F-0A48-498A-93DD-7A5DE164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6872-66FE-4684-B592-D4146C81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EB9-059A-4CB3-A6DB-7202E0AC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AA6-1F6B-4322-8463-CC401FAF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BFA-6234-429A-B9CC-B3D5400E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D880-2DC9-43AF-941B-4F85365A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B85-71CE-4235-928A-B9CFC340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0BB-6DF3-4975-8425-56E56EE0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EA80-85B6-4C5B-AC3A-47AAC4AC6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cc66"/>
                </a:solidFill>
                <a:latin typeface="Calibri"/>
              </a:rPr>
              <a:t>Тропинка к счастливой семье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C:\Documents and Settings\1\Рабочий стол\еваа.jpg"/>
          <p:cNvPicPr/>
          <p:nvPr/>
        </p:nvPicPr>
        <p:blipFill>
          <a:blip r:embed="rId1"/>
          <a:srcRect l="7975" t="1961" r="11581" b="0"/>
          <a:stretch/>
        </p:blipFill>
        <p:spPr>
          <a:xfrm>
            <a:off x="1692360" y="1420920"/>
            <a:ext cx="57592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Семейный Кодекс Российской Федер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Заголовок 3"/>
          <p:cNvSpPr/>
          <p:nvPr/>
        </p:nvSpPr>
        <p:spPr>
          <a:xfrm>
            <a:off x="0" y="500040"/>
            <a:ext cx="914400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атья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87. Обязанности совершеннолетних детей по содержанию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)  Трудоспособные      совершеннолетние     дети      обязаны      содержать      своих нетрудоспособных, нуждающихся в помощи родителей и заботиться о н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)  При отсутствии соглашения об уплате алиментов, алименты на нетрудоспособных нуждающихся      в помощи      родителей      взыскиваются      с      трудоспособных совершеннолетних детей в судебном поряд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атья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88. Участие совершеннолетних в дополнительных расходах на родите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ри отсутствии заботы совершеннолетних детей о нетрудоспособных родителях и при наличии исключительных обстоятельств (тяжелой болезни, увечья родителя, необходимости оплаты постороннего ухода за ним и других) совершеннолетние дети могут быть привлечены судом к участию в несении дополнительных расходов, вызванных этими обстоятельств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атья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95. Обязанность внуков содержать дедушку и бабушк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етрудоспособные нуждающиеся в помощи дедушка и бабушка в случае невозможности получения содержания от своих совершеннолетних трудоспособных детей или супругов (бывшего супруга) имеют право требовать в судебном порядке получения алиментов от своих трудоспособных совершеннолетних внуков, обладающих необходимыми для этого средств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атья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96, Обязанность воспитанников содержать своих Фактических воспитате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етрудоспособные нуждающиеся лица, осуществлявшие фактическое воспитание и содержание несовершеннолетних детей, имеют право требовать в судебном порядке предоставления содержания от своих трудоспособных воспитанников, достигших совершеннолетия, если они не могут получить содержание от своих совершеннолетних трудоспособных детей или от супругов (бывших супругов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Статья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97. Обязанности пасынков и падчериц по содержанию отчима и мачех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Заголовок 3"/>
          <p:cNvSpPr/>
          <p:nvPr/>
        </p:nvSpPr>
        <p:spPr>
          <a:xfrm>
            <a:off x="428760" y="928800"/>
            <a:ext cx="82296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3"/>
          <p:cNvSpPr/>
          <p:nvPr/>
        </p:nvSpPr>
        <p:spPr>
          <a:xfrm>
            <a:off x="428760" y="642960"/>
            <a:ext cx="82296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Алиментные обязательства членов семьи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8072640" cy="64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Правила заботливого отношения к родителям</a:t>
            </a:r>
            <a:br>
              <a:rPr sz="20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астоящий сын бережет покой родителей.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астоящая дочь заботится о благе своей семьи.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ельзя бездельничать, когда родители трудятся.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е вступай в пререкания со взрослыми.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е выражай недовольство тем, что у тебя нет той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или иной вещи.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е допускай, чтобы мать давала тебе то, что она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дает себе.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е осуждай старших - ни на глазах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и где-то в стороне.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ельзя садиться обедать, не пригласив старшего.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е собирайся в дорогу, не спросив разрешения и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совета у старших.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ельзя оставлять старшего родного человека в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одиночестве, особенно мать, если у нее нет никого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кроме тебя.</a:t>
            </a:r>
            <a:br>
              <a:rPr sz="2000"/>
            </a:br>
            <a:br>
              <a:rPr sz="2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Flowers_05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280" y="-360"/>
            <a:ext cx="83883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kk-KZ" sz="3200" spc="-1" strike="noStrike">
                <a:solidFill>
                  <a:srgbClr val="ffff00"/>
                </a:solidFill>
                <a:latin typeface="Times New Roman"/>
              </a:rPr>
              <a:t>Любовь, взаимоуважение, друж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Times New Roman"/>
              </a:rPr>
              <a:t>забота  друг  о  друге, совместный  отдых, гостеприимство, совместные  праздни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843280" y="5516640"/>
            <a:ext cx="65865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Times New Roman"/>
              </a:rPr>
              <a:t>совместные увлечения, трудовые династии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, трудолюб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71480" y="3214800"/>
            <a:ext cx="41432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ff"/>
                </a:solidFill>
                <a:latin typeface="Calibri"/>
              </a:rPr>
              <a:t>Отдыхаем вмест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1\Рабочий стол\семейный отдых семья.jpg"/>
          <p:cNvPicPr/>
          <p:nvPr/>
        </p:nvPicPr>
        <p:blipFill>
          <a:blip r:embed="rId1"/>
          <a:stretch/>
        </p:blipFill>
        <p:spPr>
          <a:xfrm>
            <a:off x="6300720" y="3071880"/>
            <a:ext cx="2843280" cy="328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1\Рабочий стол\семейный отдых дети.jpg"/>
          <p:cNvPicPr/>
          <p:nvPr/>
        </p:nvPicPr>
        <p:blipFill>
          <a:blip r:embed="rId2"/>
          <a:stretch/>
        </p:blipFill>
        <p:spPr>
          <a:xfrm>
            <a:off x="2928960" y="4143240"/>
            <a:ext cx="3162240" cy="250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Documents and Settings\1\Рабочий стол\семейный отдых.jpeg"/>
          <p:cNvPicPr/>
          <p:nvPr/>
        </p:nvPicPr>
        <p:blipFill>
          <a:blip r:embed="rId3"/>
          <a:stretch/>
        </p:blipFill>
        <p:spPr>
          <a:xfrm>
            <a:off x="0" y="0"/>
            <a:ext cx="2643120" cy="3965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family"/>
          <p:cNvPicPr/>
          <p:nvPr/>
        </p:nvPicPr>
        <p:blipFill>
          <a:blip r:embed="rId4"/>
          <a:stretch/>
        </p:blipFill>
        <p:spPr>
          <a:xfrm>
            <a:off x="3643200" y="0"/>
            <a:ext cx="328608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1\Рабочий стол\день родление.jpg"/>
          <p:cNvPicPr/>
          <p:nvPr/>
        </p:nvPicPr>
        <p:blipFill>
          <a:blip r:embed="rId1"/>
          <a:stretch/>
        </p:blipFill>
        <p:spPr>
          <a:xfrm>
            <a:off x="1666800" y="1414440"/>
            <a:ext cx="58104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1\Рабочий стол\глубое сердц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Отрывок из Библии:</a:t>
            </a: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  Любовь долго терпит, милосердствует, любовь не завидует, любовь не превозносится, не гордится,  не бесчинствует, не ищет своего, не раздражается, не мыслит зла, не радуется неправде, а сорадуется истине; все покрывает, всему верит, всего надеется, все переносит. Любовь никогда не перестает..." </a:t>
            </a: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(1 послание  Коринфянам 13 глава,</a:t>
            </a: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 1-8 стихи)</a:t>
            </a:r>
            <a:br>
              <a:rPr sz="20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480" y="92844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Рождение семьи сопровождается красивой традицией – бракосочетание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1\Рабочий стол\в церкви с рукой.jpg"/>
          <p:cNvPicPr/>
          <p:nvPr/>
        </p:nvPicPr>
        <p:blipFill>
          <a:blip r:embed="rId1"/>
          <a:stretch/>
        </p:blipFill>
        <p:spPr>
          <a:xfrm>
            <a:off x="4572000" y="214200"/>
            <a:ext cx="4102200" cy="3081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1\Рабочий стол\короны.jpg"/>
          <p:cNvPicPr/>
          <p:nvPr/>
        </p:nvPicPr>
        <p:blipFill>
          <a:blip r:embed="rId2"/>
          <a:srcRect l="3134" t="3534" r="2820" b="15905"/>
          <a:stretch/>
        </p:blipFill>
        <p:spPr>
          <a:xfrm>
            <a:off x="0" y="3143160"/>
            <a:ext cx="4286160" cy="371484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4286160" y="3071880"/>
            <a:ext cx="48578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Ритуал очень символичен. Все это несет определенный смысл: олицетворяет чистоту, непорочность, начало новой жизн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93560" y="-171360"/>
            <a:ext cx="8242560" cy="101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1\Рабочий стол\обряд.jpg"/>
          <p:cNvPicPr/>
          <p:nvPr/>
        </p:nvPicPr>
        <p:blipFill>
          <a:blip r:embed="rId2"/>
          <a:stretch/>
        </p:blipFill>
        <p:spPr>
          <a:xfrm>
            <a:off x="285840" y="1000080"/>
            <a:ext cx="864396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Встреча молодоже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1\Рабочий стол\каравй.jpg"/>
          <p:cNvPicPr/>
          <p:nvPr/>
        </p:nvPicPr>
        <p:blipFill>
          <a:blip r:embed="rId1"/>
          <a:stretch/>
        </p:blipFill>
        <p:spPr>
          <a:xfrm>
            <a:off x="285840" y="1000080"/>
            <a:ext cx="84661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042920" y="981000"/>
            <a:ext cx="6985080" cy="53352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8000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Традиции семьи</a:t>
            </a:r>
            <a:endParaRPr b="1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66" name="Picture 5" descr="s_dnem_semi_pozdravlenie"/>
          <p:cNvPicPr/>
          <p:nvPr/>
        </p:nvPicPr>
        <p:blipFill>
          <a:blip r:embed="rId1"/>
          <a:stretch/>
        </p:blipFill>
        <p:spPr>
          <a:xfrm>
            <a:off x="1258920" y="1557360"/>
            <a:ext cx="6791400" cy="4734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971640" y="4292640"/>
            <a:ext cx="7265880" cy="169524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брое утро солнцу и птицам 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брое утро улыбчивым лицам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tyana</cp:lastModifiedBy>
  <dcterms:modified xsi:type="dcterms:W3CDTF">2012-12-12T03:29:05Z</dcterms:modified>
  <cp:revision>10</cp:revision>
  <dc:subject/>
  <dc:title>Тропинка к счастливой семье</dc:title>
</cp:coreProperties>
</file>